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C77-F065-4033-BABC-CB4F3A17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DDF-1868-4763-9F7F-EE3EBE03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80A-FB5D-4674-A7B1-04D6BD06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3F9-29C1-49A1-B9C1-C2E88150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C7D1D-F831-44C0-9184-68490DDB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D54C6-5FF1-4D3C-840F-C86E888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05E0-7E78-4DFA-AB4A-1A122EC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CEB7-35C7-41E1-AF78-9E2FADDE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331C0-2FAB-45D3-A5F7-F96E9AB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79B91-0DE2-45CA-9166-8305CDC4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E3B0A-F154-4FCD-9116-4710ABA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7DF-D332-461C-A680-CD380F1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33BF-EA9A-40EB-A400-9F08403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331C-FFEE-4EC5-9039-4F999FF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6BCA-A5E8-4B8B-9B89-92C2DD8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7924-1BFB-4A6B-8ABC-84A92B1D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75173-82EE-4C6F-A587-B21AD69E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449-3EB4-49E1-BAF0-08F9D8E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D4-0C61-47EE-83A0-67E5E88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56A-4510-4ACC-A08D-86B88F1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E6C-C473-41CE-B5F9-DA0832D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62F-B736-4AF1-A241-876851A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209-56BD-463F-924E-9F02BD5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E25-63C8-4536-BE80-12FF58C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E1C8-4700-45D2-8139-BFCC171404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568-93F1-4E21-9269-F196DDE1C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nday, September 13, 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tudent will bisect an ang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l Work:  In your own words, define midpoint and bisec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de WS 1.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 QU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ling Together Paragraph (page24 in N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gments and Bisectors (page 25 in N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: Lesson 1.5, problems 4-13, 17-24, 31-42 (page 26 in noteboo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dnesday, September 15, 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ngle postul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l Work:  See the diagram on the board.  Name an obtuse, acute, straight angle.  List a pair of adjacent adjacent si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de HW 1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Z Monday-Angle Bisectors and Mid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Z Monday-AIMS Re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d Probl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:  Worksheet 1.6, AIMS W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0:33:51Z</dcterms:created>
  <dc:creator>tstephens</dc:creator>
  <dc:description/>
  <dc:language>en-US</dc:language>
  <cp:lastModifiedBy>tstephens</cp:lastModifiedBy>
  <dcterms:modified xsi:type="dcterms:W3CDTF">2010-09-15T16:48:57Z</dcterms:modified>
  <cp:revision>5</cp:revision>
  <dc:subject/>
  <dc:title>Geometry 1 Monday, September 13, 2010</dc:title>
</cp:coreProperties>
</file>